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AD68-4A03-4718-8007-F0A1732FC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20E2-020D-4527-A24C-9D65BDB122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CC03-7E7B-416C-996B-67A9189896F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C7FA-8EE2-460A-A893-33014CDED2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7B24-F3FC-4870-9DE2-8EDF37BF629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9627-BF7D-4E20-97DB-ECD7FFC1C1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1C10-A997-42B1-99CB-FBE8AE57E9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FF79-5D9F-4F99-B553-CC1E42F6FB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F181-3383-4D03-B831-64BE5CB17D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FAB8-D641-4F2E-968A-E2FE5272D2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7AA7-528E-4F9F-B705-31FD0ADAC1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4C0A-8C07-43E0-B169-69D4B46ABE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CFD5-90FF-42BD-BEAC-587F73517A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9F20-02E3-4E74-AF65-3A93EB7BE2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2C8B-1C53-4E76-ADAA-396D851E46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2D62-6C9B-4251-8A70-65561475A6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2653-CA9C-4A8D-A9D0-F7FC72550F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94CA-8D8A-4D11-B85D-F43EF31B02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E88E-142F-4D31-8C70-8A1F0523C1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ACA2-1127-4537-BC26-E103D31193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2428-DC56-440A-A851-E57F808559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EAA1-9B57-4AC0-9696-501468358F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1F5D-981E-41AC-89DE-F81178BECAB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DC0E-6F63-4ACA-9D82-8AA7B3F71F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3B45-0533-4FDF-8D56-318BF7DB57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DD64-E7B7-45A5-B8F3-6DD59D7BF8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567E-6511-4A26-A258-13EBCA40A9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6CD4-6538-4DC4-BFD5-988547422F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CCA0-8900-4E54-A7C0-4E4FF4269D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944F-1E7A-49AD-8BAB-AC02C601BA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2D2C-EC14-4530-9CCD-0EE23B6AD6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AD3A-25F9-44EC-83C7-AFC2916D87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4BB2-B967-4B10-9BF3-4EF85E912C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24A-FC2C-43C7-B58A-C9E7B3F8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518-F05B-4C44-95A7-A2153C39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25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256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C9F3-6824-4461-98CC-D06B46A3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128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78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128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78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E9B-B7CF-4F22-AE4D-2C907E79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2E25-BCCF-4BB2-A3DD-4FB174B4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2B60-50F5-4091-8F91-132987C0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D530-EFD3-4CCA-8819-DA54E647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256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6A40-D811-422B-AEA3-5600A3CA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A61C-46C6-4D70-BE62-479D178E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E609-0029-4DA1-BC04-4FCCCFE1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256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A649-D14E-4BE6-838E-FD5CC140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659-5205-467F-B0AB-C066FD6B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25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256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ABAA-2292-4E09-B172-AB8613B9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25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E930-6283-467F-866C-32CCE852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25C5-11EB-4CA1-8E71-57322E8A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25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256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278B-01AF-4532-8AFB-0A6FA6F7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7128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78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7128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78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F7C9-5EBE-4A59-83F0-F9E03767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6BF-46DD-41D9-A288-D103B922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256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936-C61A-4A16-B22A-12A0A3F4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875-3985-4C2D-954B-14BA1193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B87-E8BD-4F6A-A0BA-831F0ACF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256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05D8-CFC0-41B0-8153-242CF857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25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256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0DA5-6F05-4472-AA7A-4174818E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25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305-8F04-4D6C-9DA0-544FE34E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74F2-4FAD-4262-BB0E-662636B87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DFDC-F711-4EFE-A730-5F6379F250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1571760" y="4714920"/>
            <a:ext cx="628632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hib Sekhar Dat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928880" y="1857240"/>
            <a:ext cx="542916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cial Health Ins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1"/>
          <p:cNvSpPr/>
          <p:nvPr/>
        </p:nvSpPr>
        <p:spPr>
          <a:xfrm>
            <a:off x="285840" y="928800"/>
            <a:ext cx="8572320" cy="60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insurance is an earmarked fund set up by govern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icit benefits in return for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usually compulsory for certain groups in the populatio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miums are determined by income (and hence ability to pay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ther than related to health ris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enefit packages are standard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ibutions are earmarked for spending on health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overnment-run schem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 Government Health Scheme (CGH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loyees State Insurance Scheme (E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2571840" y="142920"/>
            <a:ext cx="44290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cial Health In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1"/>
          <p:cNvSpPr/>
          <p:nvPr/>
        </p:nvSpPr>
        <p:spPr>
          <a:xfrm>
            <a:off x="285840" y="1327320"/>
            <a:ext cx="85723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nerate sufficient and sustainable resources for heal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se these resources optima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y modifying incentives and through appropriate use of thes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ensure that everyone has financial accessibility to heal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2571840" y="142920"/>
            <a:ext cx="44290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argets of Social Health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571680" y="428760"/>
            <a:ext cx="80722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cial Health Insurance - financing targets and final health system goa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42920" y="3286080"/>
            <a:ext cx="2000160" cy="571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of social health insurance schem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key design iss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5357880" y="2000160"/>
            <a:ext cx="2000160" cy="571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ive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5357880" y="4643280"/>
            <a:ext cx="2000160" cy="571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r financial contrib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000920" y="3286080"/>
            <a:ext cx="2000160" cy="571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2500200" y="1857240"/>
            <a:ext cx="2214720" cy="1000440"/>
          </a:xfrm>
          <a:prstGeom prst="ellipse">
            <a:avLst/>
          </a:prstGeom>
          <a:solidFill>
            <a:srgbClr val="c2f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source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sufficient &amp; sustainab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2357280" y="4429080"/>
            <a:ext cx="2357640" cy="1000080"/>
          </a:xfrm>
          <a:prstGeom prst="ellipse">
            <a:avLst/>
          </a:prstGeom>
          <a:solidFill>
            <a:srgbClr val="c2f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in. accessibility of health services for 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2571840" y="3286080"/>
            <a:ext cx="2071440" cy="561960"/>
          </a:xfrm>
          <a:prstGeom prst="ellipse">
            <a:avLst/>
          </a:prstGeom>
          <a:solidFill>
            <a:srgbClr val="c2f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ptimal resource us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Straight Arrow Connector 14"/>
          <p:cNvCxnSpPr/>
          <p:nvPr/>
        </p:nvCxnSpPr>
        <p:spPr>
          <a:xfrm flipV="1">
            <a:off x="1285560" y="2571840"/>
            <a:ext cx="1215000" cy="643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1" name="Straight Arrow Connector 16"/>
          <p:cNvCxnSpPr/>
          <p:nvPr/>
        </p:nvCxnSpPr>
        <p:spPr>
          <a:xfrm>
            <a:off x="1285920" y="3928680"/>
            <a:ext cx="1062720" cy="848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2" name="Straight Arrow Connector 19"/>
          <p:cNvCxnSpPr/>
          <p:nvPr/>
        </p:nvCxnSpPr>
        <p:spPr>
          <a:xfrm>
            <a:off x="2071440" y="3571920"/>
            <a:ext cx="500760" cy="2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3" name="Straight Arrow Connector 24"/>
          <p:cNvCxnSpPr/>
          <p:nvPr/>
        </p:nvCxnSpPr>
        <p:spPr>
          <a:xfrm>
            <a:off x="4785840" y="2500200"/>
            <a:ext cx="2001240" cy="929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4" name="Straight Arrow Connector 27"/>
          <p:cNvCxnSpPr/>
          <p:nvPr/>
        </p:nvCxnSpPr>
        <p:spPr>
          <a:xfrm>
            <a:off x="4714560" y="3569760"/>
            <a:ext cx="214380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5" name="Straight Arrow Connector 31"/>
          <p:cNvCxnSpPr/>
          <p:nvPr/>
        </p:nvCxnSpPr>
        <p:spPr>
          <a:xfrm>
            <a:off x="4714560" y="4928760"/>
            <a:ext cx="5720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6" name="Straight Arrow Connector 36"/>
          <p:cNvCxnSpPr/>
          <p:nvPr/>
        </p:nvCxnSpPr>
        <p:spPr>
          <a:xfrm flipV="1">
            <a:off x="7428600" y="3928680"/>
            <a:ext cx="500760" cy="10008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7" name="Straight Arrow Connector 40"/>
          <p:cNvCxnSpPr/>
          <p:nvPr/>
        </p:nvCxnSpPr>
        <p:spPr>
          <a:xfrm>
            <a:off x="6357600" y="2643120"/>
            <a:ext cx="1500840" cy="5724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8" name="Straight Arrow Connector 43"/>
          <p:cNvCxnSpPr/>
          <p:nvPr/>
        </p:nvCxnSpPr>
        <p:spPr>
          <a:xfrm flipV="1">
            <a:off x="4714920" y="2642400"/>
            <a:ext cx="1357920" cy="857880"/>
          </a:xfrm>
          <a:prstGeom prst="straightConnector1">
            <a:avLst/>
          </a:prstGeom>
          <a:ln w="38160">
            <a:solidFill>
              <a:srgbClr val="ffffff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2571840" y="71280"/>
            <a:ext cx="442908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GH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Central Government Health Sche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428760" y="714240"/>
            <a:ext cx="842940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ce 1954, all employees of the Central Govt. (present and retired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autonomous and semi-government organizations, MPs, judges,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dom fighters and journalists are covered under the CGH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replace the cumbersome and expensive system of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imbursements (GOI, 1994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at providing comprehensive medical care to the Central Govt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loyees and benefits offered include all OPD facilities, and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ve and promotive care in dispensarie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atient facilities in government hospitals and approved private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pitals are also covered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2571840" y="71280"/>
            <a:ext cx="442908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GH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Central Government Health Sche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85840" y="1071720"/>
            <a:ext cx="871524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ly funded through Central Govt. fun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miums ranging from Rs 15 to Rs 150 per month based on salary scale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verage has grown substantially with provision for the non-allopathic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 of medicine as well as for allopathy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ciaries at this moment are around 432 000, spread across 22 cit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ized from the point of view of quality and accessibility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high out-of-pocket expenses due to slow reimbursement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mplete coverage for private health care (as only 80% of cost is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imbursed if referral is made to private facility when such facilities are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vailable with the CGH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2571840" y="71280"/>
            <a:ext cx="442908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S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Employees State Insurance Sche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428760" y="1363680"/>
            <a:ext cx="8286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ctment of ESI Act in 1948 led to formulation of ESI Sche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rotection to employees against loss of wages due to inability to work due to sickness, maternity, disability and death due to employment inju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medical and cash benefits, preventive and promotive care and health educa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l care is also provided to employees and their family members without fee for servi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establishments like shops, hotels, restaurants, cinema houses, road transport and news papers printing are now cove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thly wage limit for enrolment in the ESIS is Rs. 6 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2571840" y="71280"/>
            <a:ext cx="442908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S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Employees State Insurance Sche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428760" y="1000080"/>
            <a:ext cx="835812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ayment contribution in the form of a payroll tax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75% by employees, 4.75% of employees' wages paid by the employers,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5% of the total expenses are borne by the state govern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ciaries are over 33 million spread over 620 ESI centres across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 the ESIS, there were 125 hospitals, 42 annexes and 1450 dispensari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over 23 000 beds faciliti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me is managed and financed by the ESI Corporation (a public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taking) through the state govt., with total expenditure of Rs. 3300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llion or Rs 400/- per capita insured pers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2071800" y="71280"/>
            <a:ext cx="507204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xisting infrastructure under ESIS in In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57120" y="1330200"/>
          <a:ext cx="8358120" cy="4948200"/>
        </p:xfrm>
        <a:graphic>
          <a:graphicData uri="http://schemas.openxmlformats.org/drawingml/2006/table">
            <a:tbl>
              <a:tblPr/>
              <a:tblGrid>
                <a:gridCol w="5643720"/>
                <a:gridCol w="271440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Cent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. of Insured Persons/Family Uni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4,45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SI Hospita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umber of ESI Hospital Beds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3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SI Dispensa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4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surance Medical Officers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surance Medical Practitioners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2071800" y="71280"/>
            <a:ext cx="507204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oblems faced in the 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57120" y="857160"/>
            <a:ext cx="8501040" cy="53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of the problems ar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number of employers try to avoid being covered under the schem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arge number of posts of medical staff remains vacant because of high turnover and lengthy recruitment procedur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duality of contro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ing costs and technological advancement in super specialty treat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information system is not satisfactor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low utilization of the hospita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orkers are not satisfied with the services they ge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ural area the access to services is also a probl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285840" y="1071720"/>
          <a:ext cx="8643960" cy="4483080"/>
        </p:xfrm>
        <a:graphic>
          <a:graphicData uri="http://schemas.openxmlformats.org/drawingml/2006/table">
            <a:tbl>
              <a:tblPr/>
              <a:tblGrid>
                <a:gridCol w="1714320"/>
                <a:gridCol w="3286080"/>
                <a:gridCol w="364356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S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Employees State Insurance Sche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GH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Central Government Health Sche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ribu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mployees: 4.75% of wages. Employers: 1.75% of wag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l contributions are deposited by th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mploye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te governments contribute a minimum of 12.5 % on ESIS expenditures in their respective Sta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y/pension Contribu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Rs/month)      (Rs/month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3,000                 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1–6000             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01–10000         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1–15000       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gt;15000              1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bulk of resources (85%) come fro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eneral revenues of the Central Govt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imburse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es not allow reimbursement of medical treatment outside of allot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iliti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Reimbursement of consultation fee, f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p to four consultations in a total spell of ten days (on referr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Cost of medici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Charges for a maximum of ten inj. Reimbursement for specified disea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2"/>
          <p:cNvSpPr/>
          <p:nvPr/>
        </p:nvSpPr>
        <p:spPr>
          <a:xfrm>
            <a:off x="2571840" y="71280"/>
            <a:ext cx="442908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cial Health Insurance Sche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2214720" y="71280"/>
            <a:ext cx="457200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857160" y="622440"/>
            <a:ext cx="6929640" cy="58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Health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s of Health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Health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Health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s in Different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an Scenario of SH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HS and 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s and Challe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l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mend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y Forw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80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2571840" y="71280"/>
            <a:ext cx="442908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cial Health Insurance Sche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85840" y="785880"/>
          <a:ext cx="8643960" cy="5702400"/>
        </p:xfrm>
        <a:graphic>
          <a:graphicData uri="http://schemas.openxmlformats.org/drawingml/2006/table">
            <a:tbl>
              <a:tblPr/>
              <a:tblGrid>
                <a:gridCol w="1714320"/>
                <a:gridCol w="3286080"/>
                <a:gridCol w="364356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S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Employees State Insurance Sche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GH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Central Government Health Sche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title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OPD care at dispensa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r panel clinics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Consultation with specialist and supply of special medicines and tests in addition to outpatient care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Hospitalization, specialists, drugs and special die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Cash benefits: Periodical payments to any insured person in case of sickness, pregnancy, disablement or death resulting from an employment injur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First-level consultation and prevent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alth care service through dispensaries and hospitals under the sche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Consultation at a CGHS dispensary 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lyclinic or CGHS wing at a recognized hospital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Treatment from a specialist throug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erral, emergency treatment 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 hospitals and outside Indi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ligib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mployees (and dependants) working in establishments employing ten or more persons (with power) or twenty or more persons (without power) and earning less than Rs. 6 500 per month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mployees of the Central Gover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excepting railways, Armed Forc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nsioners and Delhi Administration)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nsioners, widows of Cent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vernment employees, Delhi Pol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mployees, Defence employees 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endants residing in 24 specifi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5960" y="999720"/>
            <a:ext cx="8915400" cy="57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hip is usually volunt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 of risk coverage from healthy to sick and rich to po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common fe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ecfd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c9ecfd"/>
                </a:solidFill>
                <a:latin typeface="Times New Roman"/>
                <a:ea typeface="Times New Roman"/>
              </a:rPr>
              <a:t>1. Affiliation is based on community membership and the community is strongly involved in managing the 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9ecfd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c9ecfd"/>
                </a:solidFill>
                <a:latin typeface="Times New Roman"/>
                <a:ea typeface="Times New Roman"/>
              </a:rPr>
              <a:t>2. Beneficiaries are excluded from other kinds of health cover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9ecfd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c9ecfd"/>
                </a:solidFill>
                <a:latin typeface="Times New Roman"/>
                <a:ea typeface="Times New Roman"/>
              </a:rPr>
              <a:t>3. Members share a set of social val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n order to deal with limited ability of community financ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insurance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e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 of liability from primary insurer to another insur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2000160" y="142920"/>
            <a:ext cx="514368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munity Health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on-profit social insurance sche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2571840" y="142920"/>
            <a:ext cx="44290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ype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Down Arrow 5"/>
          <p:cNvSpPr/>
          <p:nvPr/>
        </p:nvSpPr>
        <p:spPr>
          <a:xfrm>
            <a:off x="4071960" y="2928960"/>
            <a:ext cx="484200" cy="150012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Up Arrow 6"/>
          <p:cNvSpPr/>
          <p:nvPr/>
        </p:nvSpPr>
        <p:spPr>
          <a:xfrm>
            <a:off x="5143680" y="2857680"/>
            <a:ext cx="483840" cy="1571400"/>
          </a:xfrm>
          <a:prstGeom prst="up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2571840" y="1857240"/>
            <a:ext cx="442908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ovider + Insur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643040" y="5929200"/>
            <a:ext cx="628668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ype I: ACCORD, MGIMS, RAHA, SHH, V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2571840" y="4786200"/>
            <a:ext cx="450036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85840" y="785880"/>
          <a:ext cx="8643960" cy="5913360"/>
        </p:xfrm>
        <a:graphic>
          <a:graphicData uri="http://schemas.openxmlformats.org/drawingml/2006/table">
            <a:tbl>
              <a:tblPr/>
              <a:tblGrid>
                <a:gridCol w="2455920"/>
                <a:gridCol w="4044960"/>
                <a:gridCol w="21430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me and Location of the CHI as Well As Year of Initi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arget Popul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mark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COR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ilgiris, T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eduled tribes who are members o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Adivasi Munnetra Sangam (AMS) – the tribal un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 = 13,070 individual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nked with the New India Assu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an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IM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rdha, Maharasht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small farmers and landless labourers living in the 40 villages around Kasturba Hospital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 = 30,000 individual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linkages. The organisation operates the sche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igarh, Korba districts of Chhattisgar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or people living in the catchment area of the 92 rural health centres and hostel student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 = 92,000 individuals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ve their own provi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udent’s Health Ho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lkata, West Beng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ull-time student in West Bengal state, from Class 5 to university level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=5.6 million student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ve their own health facilit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untary Health Servic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re, Chenna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res in the suburbs of Chennai. (N= 104,247 individuals in two block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ve their own hospital and heal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2"/>
          <p:cNvSpPr/>
          <p:nvPr/>
        </p:nvSpPr>
        <p:spPr>
          <a:xfrm>
            <a:off x="2571840" y="142920"/>
            <a:ext cx="44290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HI Schemes in India – Type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571840" y="142920"/>
            <a:ext cx="44290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ype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000080" y="1500120"/>
            <a:ext cx="292896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surer (NG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643040" y="5929200"/>
            <a:ext cx="628668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ype II: DHAN, Yeshasvi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928800" y="4714920"/>
            <a:ext cx="450036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5715000" y="2714760"/>
            <a:ext cx="314316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Up Arrow 11"/>
          <p:cNvSpPr/>
          <p:nvPr/>
        </p:nvSpPr>
        <p:spPr>
          <a:xfrm>
            <a:off x="2000160" y="2428920"/>
            <a:ext cx="928800" cy="1857240"/>
          </a:xfrm>
          <a:prstGeom prst="upArrow">
            <a:avLst>
              <a:gd name="adj1" fmla="val 50000"/>
              <a:gd name="adj2" fmla="val 4860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Up Arrow 12"/>
          <p:cNvSpPr/>
          <p:nvPr/>
        </p:nvSpPr>
        <p:spPr>
          <a:xfrm rot="7131600">
            <a:off x="4430880" y="1283400"/>
            <a:ext cx="928800" cy="1857240"/>
          </a:xfrm>
          <a:prstGeom prst="upArrow">
            <a:avLst>
              <a:gd name="adj1" fmla="val 50000"/>
              <a:gd name="adj2" fmla="val 4860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Up Arrow 13"/>
          <p:cNvSpPr/>
          <p:nvPr/>
        </p:nvSpPr>
        <p:spPr>
          <a:xfrm rot="14769600">
            <a:off x="4358160" y="2941920"/>
            <a:ext cx="928800" cy="1857240"/>
          </a:xfrm>
          <a:prstGeom prst="upArrow">
            <a:avLst>
              <a:gd name="adj1" fmla="val 50000"/>
              <a:gd name="adj2" fmla="val 4860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 rot="16200000">
            <a:off x="1928880" y="3429000"/>
            <a:ext cx="1000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m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 rot="20089800">
            <a:off x="4512960" y="3630240"/>
            <a:ext cx="1000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 rot="1660800">
            <a:off x="4304880" y="1998360"/>
            <a:ext cx="1000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285840" y="1514520"/>
          <a:ext cx="8643960" cy="3200400"/>
        </p:xfrm>
        <a:graphic>
          <a:graphicData uri="http://schemas.openxmlformats.org/drawingml/2006/table">
            <a:tbl>
              <a:tblPr/>
              <a:tblGrid>
                <a:gridCol w="2455920"/>
                <a:gridCol w="4044960"/>
                <a:gridCol w="21430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me and Location of the CHI as Well As Year of Initi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arget Popul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mark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HAN Found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ni district, Tamil Nad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or women members of the community banking scheme and living in the villages of Mayiladumparia block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of 4,514 members and their famili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 = 19,049 individuals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linkages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women operate th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eme by themselv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shasvini Tru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ngalore, Karnata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mbers of the cooperative societies in Karnata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 = 25 lakh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erate their own program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2"/>
          <p:cNvSpPr/>
          <p:nvPr/>
        </p:nvSpPr>
        <p:spPr>
          <a:xfrm>
            <a:off x="2571840" y="142920"/>
            <a:ext cx="44290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HI Schemes in India – Type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2571840" y="142920"/>
            <a:ext cx="44290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ype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Down Arrow 5"/>
          <p:cNvSpPr/>
          <p:nvPr/>
        </p:nvSpPr>
        <p:spPr>
          <a:xfrm>
            <a:off x="4500720" y="1857240"/>
            <a:ext cx="785520" cy="292896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Up Arrow 6"/>
          <p:cNvSpPr/>
          <p:nvPr/>
        </p:nvSpPr>
        <p:spPr>
          <a:xfrm>
            <a:off x="1714680" y="3286080"/>
            <a:ext cx="714240" cy="157176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429000" y="928800"/>
            <a:ext cx="300024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surer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643040" y="5929200"/>
            <a:ext cx="628668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ype III: BAIF, Buldhana, Karuna Trust, Navsarjan, SEW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857160" y="4929120"/>
            <a:ext cx="800100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Down Arrow 10"/>
          <p:cNvSpPr/>
          <p:nvPr/>
        </p:nvSpPr>
        <p:spPr>
          <a:xfrm>
            <a:off x="7358040" y="3357720"/>
            <a:ext cx="642960" cy="1500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785880" y="2571840"/>
            <a:ext cx="257184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6572160" y="2571840"/>
            <a:ext cx="221472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ovi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Up Arrow 13"/>
          <p:cNvSpPr/>
          <p:nvPr/>
        </p:nvSpPr>
        <p:spPr>
          <a:xfrm rot="3155400">
            <a:off x="2269800" y="974520"/>
            <a:ext cx="714600" cy="1571760"/>
          </a:xfrm>
          <a:prstGeom prst="up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 rot="19290600">
            <a:off x="1981080" y="1708200"/>
            <a:ext cx="1000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m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 rot="16200000">
            <a:off x="1571760" y="4143240"/>
            <a:ext cx="1000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m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 rot="5400000">
            <a:off x="7215120" y="3786120"/>
            <a:ext cx="1000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 rot="5400000">
            <a:off x="4018680" y="2893320"/>
            <a:ext cx="18036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imburs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85840" y="571680"/>
          <a:ext cx="8643960" cy="6156000"/>
        </p:xfrm>
        <a:graphic>
          <a:graphicData uri="http://schemas.openxmlformats.org/drawingml/2006/table">
            <a:tbl>
              <a:tblPr/>
              <a:tblGrid>
                <a:gridCol w="2286000"/>
                <a:gridCol w="4214880"/>
                <a:gridCol w="21430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me and Location of the CHI as Well As Year of Initi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arget Popul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mark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ruli Kanchan, Pu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or women members of the community banking scheme and living in the 22 villages around Uruli Kanchan tow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= 1,500 wome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nked with United India Insu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an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ULDHANA Urban Cooperative and Credit society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uldhana, Maharasht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rmers living in Buldhana Distric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 = 175,0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nked with United India Insu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an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una Tru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ysore, Karnata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population of T Narsipur block and Bailhongal block, with a focus on scheduled tribes and scheduled caste popul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=634,581 individual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linkages. The organisation opera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sche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vsarjan Tru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han District, Gujar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9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Discontinued in 20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lect scheduled caste individuals in two blocks of Patan district, North Gujar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= ?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nkage with New India Assu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an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W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districts of Gujar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4,674 SEWA Union women members (urban and rural), plus their husbands living in 11 distric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 = 1,067,348 individual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nkage with National Insu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an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2"/>
          <p:cNvSpPr/>
          <p:nvPr/>
        </p:nvSpPr>
        <p:spPr>
          <a:xfrm>
            <a:off x="2571840" y="71280"/>
            <a:ext cx="442908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HI Schemes in India – Type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960" y="115236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unched on April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care of Rs. 30,000 annual hospitalization expendi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ve members of a BPL family in any part of the count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if they mig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PL beneficiary has to pay Rs. 30 per year to get the smart card with his thumb impression on the chip to identif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year, 1.2 crores BPL family members will be targ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60 million cards will be issued under the RSBY scheme over the next five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1857240" y="285840"/>
            <a:ext cx="542952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ashtriya Swasthya Bima Yoj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Oval 29"/>
          <p:cNvSpPr/>
          <p:nvPr/>
        </p:nvSpPr>
        <p:spPr>
          <a:xfrm>
            <a:off x="2500200" y="1214280"/>
            <a:ext cx="4643640" cy="457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214720" y="142920"/>
            <a:ext cx="457200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SBY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ounded Rectangle 7"/>
          <p:cNvSpPr/>
          <p:nvPr/>
        </p:nvSpPr>
        <p:spPr>
          <a:xfrm>
            <a:off x="3786120" y="871560"/>
            <a:ext cx="2000160" cy="914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ATE NODAL AG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ounded Rectangle 8"/>
          <p:cNvSpPr/>
          <p:nvPr/>
        </p:nvSpPr>
        <p:spPr>
          <a:xfrm>
            <a:off x="3786120" y="2357280"/>
            <a:ext cx="2000160" cy="91440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RANCE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ounded Rectangle 9"/>
          <p:cNvSpPr/>
          <p:nvPr/>
        </p:nvSpPr>
        <p:spPr>
          <a:xfrm>
            <a:off x="1857240" y="5214960"/>
            <a:ext cx="200052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ounded Rectangle 10"/>
          <p:cNvSpPr/>
          <p:nvPr/>
        </p:nvSpPr>
        <p:spPr>
          <a:xfrm>
            <a:off x="6000840" y="5214960"/>
            <a:ext cx="2000160" cy="914400"/>
          </a:xfrm>
          <a:prstGeom prst="roundRect">
            <a:avLst>
              <a:gd name="adj" fmla="val 16667"/>
            </a:avLst>
          </a:prstGeom>
          <a:solidFill>
            <a:srgbClr val="618c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ight Arrow 13"/>
          <p:cNvSpPr/>
          <p:nvPr/>
        </p:nvSpPr>
        <p:spPr>
          <a:xfrm rot="3060600">
            <a:off x="5598720" y="3813120"/>
            <a:ext cx="1535040" cy="75744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6ccc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ight Arrow 14"/>
          <p:cNvSpPr/>
          <p:nvPr/>
        </p:nvSpPr>
        <p:spPr>
          <a:xfrm rot="10800000">
            <a:off x="4071960" y="5313240"/>
            <a:ext cx="1535040" cy="75744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6ccc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ight Arrow 15"/>
          <p:cNvSpPr/>
          <p:nvPr/>
        </p:nvSpPr>
        <p:spPr>
          <a:xfrm rot="18745200">
            <a:off x="2315880" y="3728520"/>
            <a:ext cx="1535040" cy="75744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6ccc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17"/>
          <p:cNvSpPr/>
          <p:nvPr/>
        </p:nvSpPr>
        <p:spPr>
          <a:xfrm>
            <a:off x="3786120" y="3929040"/>
            <a:ext cx="2071800" cy="1200240"/>
          </a:xfrm>
          <a:prstGeom prst="ellipse">
            <a:avLst/>
          </a:prstGeom>
          <a:solidFill>
            <a:srgbClr val="bf0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8"/>
          <p:cNvSpPr/>
          <p:nvPr/>
        </p:nvSpPr>
        <p:spPr>
          <a:xfrm rot="3105600">
            <a:off x="5663520" y="3858120"/>
            <a:ext cx="1071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AY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4429080" y="5572080"/>
            <a:ext cx="1071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20"/>
          <p:cNvSpPr/>
          <p:nvPr/>
        </p:nvSpPr>
        <p:spPr>
          <a:xfrm rot="18762000">
            <a:off x="2383560" y="4062600"/>
            <a:ext cx="124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GIST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Cloud Callout 21"/>
          <p:cNvSpPr/>
          <p:nvPr/>
        </p:nvSpPr>
        <p:spPr>
          <a:xfrm rot="18768600">
            <a:off x="1494000" y="2702880"/>
            <a:ext cx="1290600" cy="795600"/>
          </a:xfrm>
          <a:prstGeom prst="cloudCallout">
            <a:avLst>
              <a:gd name="adj1" fmla="val -20050"/>
              <a:gd name="adj2" fmla="val 88143"/>
            </a:avLst>
          </a:prstGeom>
          <a:solidFill>
            <a:srgbClr val="88c209"/>
          </a:solidFill>
          <a:ln w="25560">
            <a:solidFill>
              <a:srgbClr val="628e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G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Explosion 1 22"/>
          <p:cNvSpPr/>
          <p:nvPr/>
        </p:nvSpPr>
        <p:spPr>
          <a:xfrm>
            <a:off x="6357960" y="2928960"/>
            <a:ext cx="1928880" cy="1414440"/>
          </a:xfrm>
          <a:prstGeom prst="irregularSeal1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RT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ounded Rectangle 23"/>
          <p:cNvSpPr/>
          <p:nvPr/>
        </p:nvSpPr>
        <p:spPr>
          <a:xfrm>
            <a:off x="142920" y="571680"/>
            <a:ext cx="2000160" cy="642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ATE GOVER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ounded Rectangle 24"/>
          <p:cNvSpPr/>
          <p:nvPr/>
        </p:nvSpPr>
        <p:spPr>
          <a:xfrm>
            <a:off x="142920" y="1285920"/>
            <a:ext cx="2000160" cy="6429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ENTRAL GOVER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ight Arrow 25"/>
          <p:cNvSpPr/>
          <p:nvPr/>
        </p:nvSpPr>
        <p:spPr>
          <a:xfrm rot="2109000">
            <a:off x="2093400" y="1192320"/>
            <a:ext cx="1781280" cy="6397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ight Arrow 26"/>
          <p:cNvSpPr/>
          <p:nvPr/>
        </p:nvSpPr>
        <p:spPr>
          <a:xfrm rot="2109000">
            <a:off x="1950840" y="2097000"/>
            <a:ext cx="1780920" cy="6397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7"/>
          <p:cNvSpPr/>
          <p:nvPr/>
        </p:nvSpPr>
        <p:spPr>
          <a:xfrm rot="2138400">
            <a:off x="2095560" y="1414080"/>
            <a:ext cx="1714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MIUM – 25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 rot="2138400">
            <a:off x="1952640" y="2342880"/>
            <a:ext cx="1714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MIUM – 75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2214720" y="285840"/>
            <a:ext cx="457200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Y Health Insuranc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357120" y="1984320"/>
            <a:ext cx="400068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s the potent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crease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provide finan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mprove quality of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trol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regulate the private se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714920" y="2000160"/>
            <a:ext cx="41432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wn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 been introduced for wrong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s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onceptually difficult to expl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dministratively more compl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s extra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2500200" y="71280"/>
            <a:ext cx="442908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surance schemes in other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71280" y="714240"/>
            <a:ext cx="9001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compulsory social health insurance is not possible in India at this st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riences from other countries such as Malaysia and Philippines needs to be studies (Malaysia 1999, Philippines 199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85840" y="2087640"/>
          <a:ext cx="8572320" cy="4699080"/>
        </p:xfrm>
        <a:graphic>
          <a:graphicData uri="http://schemas.openxmlformats.org/drawingml/2006/table">
            <a:tbl>
              <a:tblPr/>
              <a:tblGrid>
                <a:gridCol w="2000160"/>
                <a:gridCol w="3357720"/>
                <a:gridCol w="3214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ey Feat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merican Sys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erman Sys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wners of health insur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 companies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ckness funds composed of Members who are workers of one type - as in a cooperative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verage, and access to health c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 % of population covered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cess to health care unequ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.5% of population covered and access to every one is equ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lection and refusals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 occu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allowed by law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oice of provid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s - but being restricted in HMO sys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s  wide choice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ture of reg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nimal by government, mostly by market for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lf-regulation by autonomous bodies under overall framework of social legis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2357280" y="142920"/>
            <a:ext cx="442944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cl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428760" y="857160"/>
            <a:ext cx="8215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odal agency is import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Health Insurance has the potent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crease access to health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provide financial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mprove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a lot of systemic changes need to be m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term perspe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ze a design but with some flex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mpetition to get a reasonable prem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for building capacity of the government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142920" y="285840"/>
            <a:ext cx="44290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71280" y="1106640"/>
            <a:ext cx="8929800" cy="58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Health Organization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hing universal coverage via social health insuranc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WHO, Geneva, 200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ard BS, Reinhard Busse, Josep Figueras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health insurance systems in western Europ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England: Open University Press; 2004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tinchem O, Schramm  B, Schmidt,  Jean O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enefits and Challenges of Social Health Insurance for Developing and Transitional Countries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ies International  Public Health, Germany, 2006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adasan N, Ranson K, Van DW, Criel B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 Health Insurance in India: An Overview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ic and Political Weekly; 2004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valankar D, Bhatt R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lth Insurance in India Opportunities, Challenges and Concerns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an Institute of Management, Ahmedabad; 200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son K and Acharya A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 based health insurance: The Answer to India’s Risk Sharing Problems?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ealth Action, 200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85480" y="70920"/>
            <a:ext cx="86295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surance </a:t>
            </a:r>
            <a:r>
              <a:rPr b="1" lang="en-US" sz="2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y health insurance schemes or private-for-profit sc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loyer-based sc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rance offered by NGOs / community based health insuranc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datory health insurance schemes or government run schemes (namely ESIS, CGHS).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health insurance in India and Europe, Germany, Japan and so on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health insurance in these countries, in fact, evolved from a conglomeration of small ‘community’ health insurance sche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50000"/>
              </a:lnSpc>
              <a:spcBef>
                <a:spcPts val="275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5d25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35d25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2357280" y="142920"/>
            <a:ext cx="457200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alth Insurance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ounded Rectangle 7"/>
          <p:cNvSpPr/>
          <p:nvPr/>
        </p:nvSpPr>
        <p:spPr>
          <a:xfrm>
            <a:off x="3643200" y="714240"/>
            <a:ext cx="2000520" cy="914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SUR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ounded Rectangle 8"/>
          <p:cNvSpPr/>
          <p:nvPr/>
        </p:nvSpPr>
        <p:spPr>
          <a:xfrm>
            <a:off x="3643200" y="2500200"/>
            <a:ext cx="2000520" cy="91440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ounded Rectangle 9"/>
          <p:cNvSpPr/>
          <p:nvPr/>
        </p:nvSpPr>
        <p:spPr>
          <a:xfrm>
            <a:off x="1643040" y="5214960"/>
            <a:ext cx="200016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ounded Rectangle 10"/>
          <p:cNvSpPr/>
          <p:nvPr/>
        </p:nvSpPr>
        <p:spPr>
          <a:xfrm>
            <a:off x="6000840" y="5214960"/>
            <a:ext cx="2000160" cy="914400"/>
          </a:xfrm>
          <a:prstGeom prst="roundRect">
            <a:avLst>
              <a:gd name="adj" fmla="val 16667"/>
            </a:avLst>
          </a:prstGeom>
          <a:solidFill>
            <a:srgbClr val="618c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ight Arrow 13"/>
          <p:cNvSpPr/>
          <p:nvPr/>
        </p:nvSpPr>
        <p:spPr>
          <a:xfrm rot="3060600">
            <a:off x="5598720" y="3813120"/>
            <a:ext cx="1535040" cy="75744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6ccc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ight Arrow 14"/>
          <p:cNvSpPr/>
          <p:nvPr/>
        </p:nvSpPr>
        <p:spPr>
          <a:xfrm rot="10800000">
            <a:off x="4071960" y="5313240"/>
            <a:ext cx="1535040" cy="75744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6ccc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ight Arrow 15"/>
          <p:cNvSpPr/>
          <p:nvPr/>
        </p:nvSpPr>
        <p:spPr>
          <a:xfrm rot="18745200">
            <a:off x="2315880" y="3728520"/>
            <a:ext cx="1535040" cy="75744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6ccc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Up-Down Arrow 16"/>
          <p:cNvSpPr/>
          <p:nvPr/>
        </p:nvSpPr>
        <p:spPr>
          <a:xfrm>
            <a:off x="4572000" y="1643040"/>
            <a:ext cx="285840" cy="787320"/>
          </a:xfrm>
          <a:prstGeom prst="upDownArrow">
            <a:avLst>
              <a:gd name="adj1" fmla="val 50000"/>
              <a:gd name="adj2" fmla="val 49975"/>
            </a:avLst>
          </a:prstGeom>
          <a:solidFill>
            <a:srgbClr val="6ccc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17"/>
          <p:cNvSpPr/>
          <p:nvPr/>
        </p:nvSpPr>
        <p:spPr>
          <a:xfrm>
            <a:off x="3643200" y="3786120"/>
            <a:ext cx="2071800" cy="1200240"/>
          </a:xfrm>
          <a:prstGeom prst="ellipse">
            <a:avLst/>
          </a:prstGeom>
          <a:solidFill>
            <a:srgbClr val="bf0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 rot="3105600">
            <a:off x="5663520" y="3858120"/>
            <a:ext cx="1071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AY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4429080" y="5572080"/>
            <a:ext cx="1071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 rot="18762000">
            <a:off x="2383560" y="4062600"/>
            <a:ext cx="124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M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Cloud Callout 21"/>
          <p:cNvSpPr/>
          <p:nvPr/>
        </p:nvSpPr>
        <p:spPr>
          <a:xfrm rot="18768600">
            <a:off x="1268280" y="2187720"/>
            <a:ext cx="1643040" cy="1255680"/>
          </a:xfrm>
          <a:prstGeom prst="cloudCallout">
            <a:avLst>
              <a:gd name="adj1" fmla="val -20050"/>
              <a:gd name="adj2" fmla="val 88143"/>
            </a:avLst>
          </a:prstGeom>
          <a:solidFill>
            <a:srgbClr val="88c209"/>
          </a:solidFill>
          <a:ln w="25560">
            <a:solidFill>
              <a:srgbClr val="628e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214200" y="1200240"/>
            <a:ext cx="8715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datory health insurance  where everyone has to enroll and pay a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d prem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 enrolled is entitled to specified benef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s and premiums determined by regulations – difficult to adj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s are earmarked for health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relation between demand and insurance prem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typ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MARCK system – Employs multiple organizations which call for sickness fu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one parastatal agency outside the day-to-day control of the political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2571840" y="357120"/>
            <a:ext cx="442908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cial Health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7596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yers voluntarily purchase insurance coverage from private, independent, competitive, for-profit or not-for-profit insurance compan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mium that reflect buyer’s risk rather than their ability to p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s/ Individuals are usually based in emplo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s with Private Health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Adverse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Risk Selection (Cream Skimm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Informational Asymmetry an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ral Haz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35d25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2428920" y="214200"/>
            <a:ext cx="442908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ivate Health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596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omplement taxation and social &amp; private insurance in order to reach those left out by formal taxation and insurance schemes such as employed in the informal sector, the unemployed, living in rural are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ly evolve in the context of severe economic constrains, political instability, and lack of good govern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: such arrangements improve people’s access to drugs, primary care, and even to more advanced hospital care. This community involvement allows rural and low-income populations to raise more resources with which to pay for health care than would otherwise have been possible.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tudy done by Preker et al (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2571840" y="142920"/>
            <a:ext cx="442908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munity Financ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7596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-of-Pocket Payme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yments by patients directly to health services providers that are not reimbursable by an insurance sche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er F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component of OOP s and refer to payments when these are made for services provided by the public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both th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d2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ey is raised and spent loc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s leakage through insurance syste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ients see direct result for their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, more willing p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services better – enhanced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rvice in not free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d25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35d25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07:00:03Z</dcterms:created>
  <dc:creator> </dc:creator>
  <dc:description/>
  <dc:language>en-US</dc:language>
  <cp:lastModifiedBy> </cp:lastModifiedBy>
  <dcterms:modified xsi:type="dcterms:W3CDTF">2008-08-13T15:54:35Z</dcterms:modified>
  <cp:revision>58</cp:revision>
  <dc:subject/>
  <dc:title>Slide 1</dc:title>
</cp:coreProperties>
</file>